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F50-68C3-4F7B-8F05-39A9F655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C6E-2E43-4849-AEAA-F4D3F430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0F2-9C25-46E8-9062-B9BD6F53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187-208E-4B49-9B20-BC5D3FEE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614-2DC7-40BD-8F3D-D2CF9BA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16C-4813-4720-AA83-792FF61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80F-571F-4D9A-8D02-D24FCC0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232-015B-4996-994A-EA01E28C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0C8-A2CA-4262-B754-FC4774D4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B2D-7810-4441-ACF4-F3877AA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B45-DE3F-4DFB-AE55-8BFDEDEC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C8D-4BA8-45AF-8486-7CD8BAF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D6D-9D6F-4DF3-81E0-59ABB64E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3580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ALA GIMNAZIALA SPECIALA MARINA, CURTEA DE ARGES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GRAMA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şcolar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6"/>
          <p:cNvSpPr/>
          <p:nvPr/>
        </p:nvSpPr>
        <p:spPr>
          <a:xfrm>
            <a:off x="3714840" y="1928880"/>
            <a:ext cx="22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dminist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6357960" y="2571840"/>
            <a:ext cx="2209680" cy="78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misia de Evaluare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urare a Calita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9"/>
          <p:cNvSpPr/>
          <p:nvPr/>
        </p:nvSpPr>
        <p:spPr>
          <a:xfrm flipH="1">
            <a:off x="2785680" y="2928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0"/>
          <p:cNvSpPr/>
          <p:nvPr/>
        </p:nvSpPr>
        <p:spPr>
          <a:xfrm>
            <a:off x="5000760" y="28576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929040" y="2714760"/>
            <a:ext cx="165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2"/>
          <p:cNvSpPr/>
          <p:nvPr/>
        </p:nvSpPr>
        <p:spPr>
          <a:xfrm>
            <a:off x="600084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1214280" y="2714760"/>
            <a:ext cx="135756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siliu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fesor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5643720" y="3286080"/>
            <a:ext cx="1214280" cy="7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500040" y="5214960"/>
            <a:ext cx="278604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itii de conducere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i de executie =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posturi = 3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7000920" y="3857760"/>
            <a:ext cx="1128600" cy="64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e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2"/>
          <p:cNvSpPr/>
          <p:nvPr/>
        </p:nvSpPr>
        <p:spPr>
          <a:xfrm flipH="1">
            <a:off x="2714760" y="3214800"/>
            <a:ext cx="1071360" cy="9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54" descr=""/>
          <p:cNvPicPr/>
          <p:nvPr/>
        </p:nvPicPr>
        <p:blipFill>
          <a:blip r:embed="rId1"/>
          <a:stretch/>
        </p:blipFill>
        <p:spPr>
          <a:xfrm>
            <a:off x="2494080" y="1133640"/>
            <a:ext cx="444960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55"/>
          <p:cNvSpPr txBox="1"/>
          <p:nvPr/>
        </p:nvSpPr>
        <p:spPr>
          <a:xfrm>
            <a:off x="3929040" y="857160"/>
            <a:ext cx="17128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771640" y="620640"/>
            <a:ext cx="376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>
            <a:off x="1295280" y="4010040"/>
            <a:ext cx="1357560" cy="7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ida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51"/>
          <p:cNvCxnSpPr/>
          <p:nvPr/>
        </p:nvCxnSpPr>
        <p:spPr>
          <a:xfrm flipH="1">
            <a:off x="4857480" y="1571400"/>
            <a:ext cx="2160" cy="286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>
            <a:off x="4857480" y="2357280"/>
            <a:ext cx="216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9:24:28Z</dcterms:created>
  <dc:creator>MARINA</dc:creator>
  <dc:description/>
  <dc:language>en-US</dc:language>
  <cp:lastModifiedBy>roxanas</cp:lastModifiedBy>
  <dcterms:modified xsi:type="dcterms:W3CDTF">2014-03-28T11:13:02Z</dcterms:modified>
  <cp:revision>14</cp:revision>
  <dc:subject/>
  <dc:title>Centrul de zi Marina                                                       Organigramă                                                An şcolar 2011 - 2012</dc:title>
</cp:coreProperties>
</file>